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23D-EF1E-4ABA-A705-E7FFE134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965-F940-4790-AD55-37D29E5D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BB6-2B7C-4025-8800-AC3F47DB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2EE-C6D0-4314-843F-DA881EFD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A22-0D4C-4895-A6D6-0FC4FDB4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B17-B32A-4A81-A9CF-8FC2E127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81A-1569-48E4-8CAB-E05668F6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E00-851C-4DDB-BE1A-A7F19F7F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29E-6892-4405-A442-70243CD2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24A-381D-47CF-86DD-EFB51020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410-2368-4F88-B2C8-C606DB2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E92-13AC-47E5-95F6-5899F384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B439-521E-4805-9B59-0A7B11837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7:49:26Z</dcterms:created>
  <dc:creator>EC Computing Customer</dc:creator>
  <dc:description/>
  <dc:language>en-US</dc:language>
  <cp:lastModifiedBy>mpetrow</cp:lastModifiedBy>
  <dcterms:modified xsi:type="dcterms:W3CDTF">2009-06-30T15:46:57Z</dcterms:modified>
  <cp:revision>17</cp:revision>
  <dc:subject/>
  <dc:title>Slide 1</dc:title>
</cp:coreProperties>
</file>